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B90-AF7C-454C-8D74-00FCF7A0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750-EC08-4023-A6B9-CB360B9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A38-C58A-4BD8-BFFB-757426E7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EE8-E89D-48D5-94EA-2A9F501D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877-8C81-4A78-B932-D450579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384-8406-4789-BFA3-AC30A4E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A31-9925-42B3-98BA-70AB4D2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593-B0D0-4670-8797-45FCD674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A7A-FACA-46D9-ABEA-00970A94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0FA-D988-4129-B535-8E6340E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0C5-01E5-4FFD-ABA6-1FEA36E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4C9-00EF-4882-9D1F-232FB50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246-9EC0-4374-84E5-FACCC2C48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36:36Z</dcterms:created>
  <dc:creator>abeason</dc:creator>
  <dc:description/>
  <dc:language>en-US</dc:language>
  <cp:lastModifiedBy>abeason</cp:lastModifiedBy>
  <dcterms:modified xsi:type="dcterms:W3CDTF">2009-10-20T14:36:45Z</dcterms:modified>
  <cp:revision>1</cp:revision>
  <dc:subject/>
  <dc:title>Slide 1</dc:title>
</cp:coreProperties>
</file>